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78DB-8D2B-4DCA-9984-DED7A39F933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933D-D185-4B2E-98C5-71AB0CA043F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EC4F-7852-4EBB-94B7-9FA80EB0AF8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BCFF-C6F9-474D-BB5A-000F49242FF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875-9AAF-4C64-AB67-7CC4F6C60EB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2A7-EA75-435F-ABA7-3B164E60927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F35C-FC0E-47D6-B7EB-46EC4A4DE56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F454-2911-4C6B-87D7-E601F519DB8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10B8-7934-4163-9136-D03B8508DAD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8B40-A36C-4700-B3D7-E221FDA1D84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0ACD-48FE-489B-8D96-B639DC6C54F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5A11-7544-45F9-BD79-49BBADBD923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9D29-B655-4CF5-BE00-764980D83D1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1B67-A795-42BA-90A2-27B8DEF8C07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5640-A5C3-4EAF-976C-7B692F9B388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5206-67D4-4ECD-B3F7-4C9579A58B1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E271-A5C0-4149-82C7-1D56ABED02B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59FD-BE8A-4575-A099-515ADD97BB0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2642-D979-4688-B493-CB6F4215E77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07DA-ADE0-4A7B-BCEB-5062B7D3CFA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A06A-9678-4815-8880-EB15BFE6B9A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7E05-A9A7-48FD-B218-8767ACAEFA5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355C-022E-4E33-B0E4-E4AF3B31B36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095B-592C-43DC-9373-AF85928D527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A6DE-FD2E-4794-B1F3-79FA7A23634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CBF-1073-453F-9E55-2969B0CB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13F-8B46-46D1-8EF2-254A912A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8A9-9A20-48C2-AE45-017C48F2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F99-64DA-465D-8CA9-85C10F3F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07E-8D58-4932-A155-4EC44597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79C-49D4-43E9-B63A-A6BE7EF4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7D5-6BAC-45F0-BD5A-D9646FCF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56B-90C4-4918-9A0D-D9C83B0B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4A3-F7FB-4F7E-8037-CF23AB0C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431-8529-4E65-BE79-EE11161C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325-5B67-4BB6-8C9E-746A18B1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54A-EF91-446D-8D97-CE027773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C26-1B9D-48D4-B39D-0E50A9D99B4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97A3-0D8D-4942-AEA2-162C01690F9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ЗУБ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6316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7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9 - 21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Узроци импакције зуба, дијагноза и третман импактираних зуба, вађење        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импактираних зуба, компликације изазване вађењем импактираних зуба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91480" y="6180120"/>
            <a:ext cx="782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0" y="6424560"/>
            <a:ext cx="392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428D-BB16-4FD4-BCDD-9A3A7F51DAC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33440" y="1455840"/>
            <a:ext cx="825336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импактираних зуба може бити усмерен ка њиховом чувању и потпомагању њиховог ницања или ка њиховом вађењу, а у извесним случајевима се третман одлаже или се од третмана одуста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импактираног зуба може бити усмерен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– ортодонтски поступ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филактичко вађ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ско вађ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лагање третмана или одустајање од третм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814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30C6-FD8C-4040-ABBA-8EDF90337B1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44600" y="1623960"/>
            <a:ext cx="821844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неизниклих зуба зависи првенствено 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цене могућности њиховог ниц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рости пациј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штег здравственог 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сутних симптома и патолошких про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0" y="6424560"/>
            <a:ext cx="3894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3B73-485D-4C0B-9CF0-932EBD35DB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20840" y="1455840"/>
            <a:ext cx="8253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 ЗА ТЕРАПИЈСКО ВАЂЕЊЕ ИМПАКТИРА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сумњива индикација за терапијско вађење импактираних зуба постоје када се јави нека од компликација или ако би требало благовремено спречити њихов настан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коронити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запаљење гингиве око зуба. Најчешће захвата доње умњаке, првенствено ако су полуимпактирани и ако им је део круне ван кости прекривена меким тк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CB23-9A00-49C6-8C2F-6CF925B4183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69800" y="1731960"/>
            <a:ext cx="846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слабог самочишћења, храна запада у простор између оклузалне површине зуба и гингиве, изазивајући њену инфламацију, коју додатно трауматизира зуб антагон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77800" y="5200560"/>
            <a:ext cx="835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треба  учинити што пре, препоручљиво је и пре санирања знакова инфекције, због могућег ширења инфекције у околне просторе. Ординирати антибиотик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D:\User\Korisnik\Downloads\m4_slide18_pericor2.gif"/>
          <p:cNvPicPr/>
          <p:nvPr/>
        </p:nvPicPr>
        <p:blipFill>
          <a:blip r:embed="rId1"/>
          <a:stretch/>
        </p:blipFill>
        <p:spPr>
          <a:xfrm>
            <a:off x="2808360" y="2957400"/>
            <a:ext cx="28432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0" y="6424560"/>
            <a:ext cx="3830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D671-3A2D-4536-AF2B-D05C572B845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7200" y="1684440"/>
            <a:ext cx="8132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тварање пародонталног џепа око сусед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јавља са дисталне стране другог молара, ако је реч о импактираном трећем молару или са дисталне стране латералног секутића ако је импактиран очњ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dzep.jpg"/>
          <p:cNvPicPr/>
          <p:nvPr/>
        </p:nvPicPr>
        <p:blipFill>
          <a:blip r:embed="rId1"/>
          <a:stretch/>
        </p:blipFill>
        <p:spPr>
          <a:xfrm>
            <a:off x="3048120" y="3570120"/>
            <a:ext cx="2727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27ED-77D5-4BB2-88B4-971775C4DD6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57200" y="1708200"/>
            <a:ext cx="8145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ариј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пактирани зуб може да изазове каријес суседног зуба, поготову уколико је у контакту са њим. Каријес може да се јави и на самом импактираном зубу, поготову ако је полуимпакти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есорпција корена сусед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треба израде протетичког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0" y="6424560"/>
            <a:ext cx="379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CF4E-DC82-46D0-A451-07972781D4C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69800" y="1647720"/>
            <a:ext cx="81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атолошки процеси ( цисте, тумор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C:\Users\Zoran\Downloads\oralna hirurgija\slike\imagelo.jpg"/>
          <p:cNvPicPr/>
          <p:nvPr/>
        </p:nvPicPr>
        <p:blipFill>
          <a:blip r:embed="rId1"/>
          <a:stretch/>
        </p:blipFill>
        <p:spPr>
          <a:xfrm>
            <a:off x="1878120" y="2155680"/>
            <a:ext cx="5362560" cy="212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C:\Users\Zoran\Downloads\oralna hirurgija\slike\imagesvbvc.jpg"/>
          <p:cNvPicPr/>
          <p:nvPr/>
        </p:nvPicPr>
        <p:blipFill>
          <a:blip r:embed="rId2"/>
          <a:stretch/>
        </p:blipFill>
        <p:spPr>
          <a:xfrm>
            <a:off x="1868400" y="4282920"/>
            <a:ext cx="53593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0" y="6424560"/>
            <a:ext cx="379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EEA0-F71B-43CC-AF79-AA3E69D4D67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44600" y="1623960"/>
            <a:ext cx="8254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тенцирање ортодонтских 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некад је потребно вађење појединих импактираних зуба пре почетка ортодонтског лечења, чиме би се онемогућило њихово негативно деловање на процес санирања аномалије (најчешће тескобе зубног низ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Зуб у линији фрактур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олико се, приликом фрактуре вилице, импактирани зуб нађе у линији фрактуре, његово вађење је готово по правилу индиковано да би се санација фрактуре постигла без комплик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6D31-DBF3-43E5-9095-1C6DDBA231C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69800" y="1731960"/>
            <a:ext cx="816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импактираних зуба понекад може бити лако, међутим, у извесним ситуацијама ова интервенција се може пролонгирати што зависи од низа чинилаца који на њу утичу и који је усмерав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Морфологија зуба, формираност корена, компактност и густина кости, близак контакт са суседним зубом, близина максиларног синуса и мандибуларног ка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B62D-48FD-4100-8B1A-30F08093808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69800" y="1492200"/>
            <a:ext cx="8158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једну од најчешћих орално-хируршких интервен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 поступка вађења потребно је детаљно се упознати са клиничким изгледом зуба, његовом морфологијом, односом са околним анатомским структу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ВИНТЕРОВ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асификација импактираног доњег умњака у односу према другом молару и оклузалној равни (</a:t>
            </a:r>
            <a:r>
              <a:rPr b="0" lang="sr-CS" sz="2000" spc="-1" strike="noStrike">
                <a:solidFill>
                  <a:srgbClr val="00b050"/>
                </a:solidFill>
                <a:latin typeface="Palatino Linotype"/>
              </a:rPr>
              <a:t>вертикалан, хоризонталан,</a:t>
            </a:r>
            <a:r>
              <a:rPr b="0" lang="en-US" sz="2000" spc="-1" strike="noStrike">
                <a:solidFill>
                  <a:srgbClr val="00b05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b050"/>
                </a:solidFill>
                <a:latin typeface="Palatino Linotype"/>
              </a:rPr>
              <a:t>мезиоангуларан,</a:t>
            </a:r>
            <a:r>
              <a:rPr b="0" lang="en-US" sz="2000" spc="-1" strike="noStrike">
                <a:solidFill>
                  <a:srgbClr val="00b05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b050"/>
                </a:solidFill>
                <a:latin typeface="Palatino Linotype"/>
              </a:rPr>
              <a:t>дистоангуларан, букални, лингвални, обрнут и атипични положај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C:\Users\Zoran\Downloads\oralna hirurgija\slike\imagesvfds.jpg"/>
          <p:cNvPicPr/>
          <p:nvPr/>
        </p:nvPicPr>
        <p:blipFill>
          <a:blip r:embed="rId1"/>
          <a:stretch/>
        </p:blipFill>
        <p:spPr>
          <a:xfrm>
            <a:off x="2790720" y="4403880"/>
            <a:ext cx="4091040" cy="20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4FAF-5ADE-4422-ACF5-6777DFFB578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јам импакције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20840" y="1733400"/>
            <a:ext cx="824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мин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мпактирани зуб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значава зуб који није никао зато што му је нормалан пут ницања ометен или блокиран неком препреком, која може бити други зуб, вилична кост или нека патолошка творевина у кости или меком ткиву на путу његовог ниц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Неизникли зуб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значава да зуб није видљив у усној шупљини приликом клиничког прегледа, без обзира на разлоге његовог одсуства или разматрања могућности да он никне у времену које је за то предвиђ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елимично изникли зуб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ли полуимпактирани зуб, означава се зуб који је делимично видљив у усној шупљини, а  делимично је прекривен меким тк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F9A2-0E46-420C-8A9C-BF0BF4B8E91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457200" y="1671480"/>
            <a:ext cx="816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намичка процена предстојеће интервенције врши се обрнутим редом од реда поступака при самом вађењу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) процену пута извлачењ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) уочавање препрека да би се он испоштова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) начин превазилажења уочених преп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) технику вађењ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) планирање одговарајућег мукопериосталног реж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C:\Users\Zoran\Downloads\oralna hirurgija\slike\imagespopopo.jpg"/>
          <p:cNvPicPr/>
          <p:nvPr/>
        </p:nvPicPr>
        <p:blipFill>
          <a:blip r:embed="rId1"/>
          <a:srcRect l="6363" t="27922" r="27034" b="15489"/>
          <a:stretch/>
        </p:blipFill>
        <p:spPr>
          <a:xfrm>
            <a:off x="2346480" y="4259160"/>
            <a:ext cx="381924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0" y="6424560"/>
            <a:ext cx="3814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93A1-A882-4B5E-8514-8F4634C68BA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444600" y="170820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лизина мандибуларног канала захтева посебну пажњу приликом планирања вађења доњег импактираног трећег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C:\Users\Zoran\Downloads\oralna hirurgija\slike\imagesjhjh.jpg"/>
          <p:cNvPicPr/>
          <p:nvPr/>
        </p:nvPicPr>
        <p:blipFill>
          <a:blip r:embed="rId1"/>
          <a:stretch/>
        </p:blipFill>
        <p:spPr>
          <a:xfrm>
            <a:off x="357120" y="2376360"/>
            <a:ext cx="3672000" cy="406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784_2008_200_Fig3_HTML"/>
          <p:cNvPicPr/>
          <p:nvPr/>
        </p:nvPicPr>
        <p:blipFill>
          <a:blip r:embed="rId2"/>
          <a:stretch/>
        </p:blipFill>
        <p:spPr>
          <a:xfrm>
            <a:off x="4167360" y="2463840"/>
            <a:ext cx="4751280" cy="19558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138560" y="4699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Ако светлина траке мандибуларног канала укршта сенку коренова умњака без промене интензитета његове сенке и уз очување линија крова и пода канала, највероватније се ради само о суперпозицији</a:t>
            </a:r>
            <a:r>
              <a:rPr b="0" lang="en-US" sz="18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753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866C-DD3B-4EFC-A367-16252313991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79" name="Picture 7" descr="impakcije044"/>
          <p:cNvPicPr/>
          <p:nvPr/>
        </p:nvPicPr>
        <p:blipFill>
          <a:blip r:embed="rId1"/>
          <a:srcRect l="0" t="3273" r="19289" b="50580"/>
          <a:stretch/>
        </p:blipFill>
        <p:spPr>
          <a:xfrm>
            <a:off x="2571840" y="1641600"/>
            <a:ext cx="345600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Rectangle 9"/>
          <p:cNvSpPr/>
          <p:nvPr/>
        </p:nvSpPr>
        <p:spPr>
          <a:xfrm>
            <a:off x="1182600" y="4795920"/>
            <a:ext cx="642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беличасте линије пода и крова канала се губе, а интензитет сенке корена је слаб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0" y="6424560"/>
            <a:ext cx="39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2521-8C87-4AE2-B95E-560CCCF9172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85" name="Picture 9" descr="C:\Documents and Settings\Biocanin\Desktop\Slika0368.jpg"/>
          <p:cNvPicPr/>
          <p:nvPr/>
        </p:nvPicPr>
        <p:blipFill>
          <a:blip r:embed="rId1"/>
          <a:srcRect l="0" t="0" r="0" b="21333"/>
          <a:stretch/>
        </p:blipFill>
        <p:spPr>
          <a:xfrm>
            <a:off x="2674800" y="1319040"/>
            <a:ext cx="3444840" cy="361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Rectangle 8"/>
          <p:cNvSpPr/>
          <p:nvPr/>
        </p:nvSpPr>
        <p:spPr>
          <a:xfrm>
            <a:off x="1335240" y="4952880"/>
            <a:ext cx="660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Затамњење у виду „црне траке“ мандибуларног канала која укршта корен умњака - бочни контакт мандибуларног канала и коренова умњака или перфорација лингвалног кортекс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0" y="6424560"/>
            <a:ext cx="4035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84BF-E6B8-4936-BD3F-208BE228FFD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1360" y="140760"/>
            <a:ext cx="870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91" name="Picture 6" descr="C:\Users\Vladimir\Desktop\mandibularni kanal i treci molar\slike\juxta apical radiolucency.jpg"/>
          <p:cNvPicPr/>
          <p:nvPr/>
        </p:nvPicPr>
        <p:blipFill>
          <a:blip r:embed="rId1"/>
          <a:stretch/>
        </p:blipFill>
        <p:spPr>
          <a:xfrm>
            <a:off x="2874960" y="3754440"/>
            <a:ext cx="3595680" cy="254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Rectangle 7"/>
          <p:cNvSpPr/>
          <p:nvPr/>
        </p:nvSpPr>
        <p:spPr>
          <a:xfrm>
            <a:off x="1119240" y="1685880"/>
            <a:ext cx="65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Апикални контакт </a:t>
            </a: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тракасто расветљење око апекса корена, некад са губитком беличасте линије крова канала тзв.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juxta apical radiolucency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A0BE-7FFD-4EF0-B5C1-7135464C0E4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444600" y="2093760"/>
            <a:ext cx="820584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ХИРУРШКИ ПОСТУП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рмирање мукопериосталног реж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варање приступа зубу уклањањем одређене количине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применом сепарације коренова његових делова или зуба у це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рада и дебридман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0" y="6424560"/>
            <a:ext cx="392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4B96-BB7B-4BA0-B9B2-37A1104D0C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444600" y="1684440"/>
            <a:ext cx="82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ОРМИРАЊЕ РЕЖ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C:\Users\Zoran\Downloads\oralna hirurgija\slike\download (24).jpg"/>
          <p:cNvPicPr/>
          <p:nvPr/>
        </p:nvPicPr>
        <p:blipFill>
          <a:blip r:embed="rId1"/>
          <a:stretch/>
        </p:blipFill>
        <p:spPr>
          <a:xfrm>
            <a:off x="504720" y="2351160"/>
            <a:ext cx="3318120" cy="215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Users\Zoran\Downloads\oralna hirurgija\slike\imagesJJH.jpg"/>
          <p:cNvPicPr/>
          <p:nvPr/>
        </p:nvPicPr>
        <p:blipFill>
          <a:blip r:embed="rId2"/>
          <a:stretch/>
        </p:blipFill>
        <p:spPr>
          <a:xfrm>
            <a:off x="5396040" y="2308320"/>
            <a:ext cx="3170160" cy="2143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C:\Users\Zoran\Downloads\oralna hirurgija\slike\imagesGTR.jpg"/>
          <p:cNvPicPr/>
          <p:nvPr/>
        </p:nvPicPr>
        <p:blipFill>
          <a:blip r:embed="rId3"/>
          <a:srcRect l="7891" t="4006" r="6978" b="6060"/>
          <a:stretch/>
        </p:blipFill>
        <p:spPr>
          <a:xfrm>
            <a:off x="2935440" y="4222800"/>
            <a:ext cx="3033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0" y="6424560"/>
            <a:ext cx="39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FC85-CCEC-4DA4-9BF2-181A911A98C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10" name="Picture 8" descr="C:\Users\Zoran\Downloads\oralna hirurgija\slike\imagesNNNN.jpg"/>
          <p:cNvPicPr/>
          <p:nvPr/>
        </p:nvPicPr>
        <p:blipFill>
          <a:blip r:embed="rId1"/>
          <a:stretch/>
        </p:blipFill>
        <p:spPr>
          <a:xfrm>
            <a:off x="2376360" y="2517840"/>
            <a:ext cx="4181760" cy="3130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8"/>
          <p:cNvSpPr/>
          <p:nvPr/>
        </p:nvSpPr>
        <p:spPr>
          <a:xfrm>
            <a:off x="517680" y="1612800"/>
            <a:ext cx="79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УКЛАЊАЊ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846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C231-67D7-4820-80A8-C36CDC92F7C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16" name="Picture 9" descr="C:\Users\Zoran\Downloads\oralna hirurgija\slike\download (25).jpg"/>
          <p:cNvPicPr/>
          <p:nvPr/>
        </p:nvPicPr>
        <p:blipFill>
          <a:blip r:embed="rId1"/>
          <a:stretch/>
        </p:blipFill>
        <p:spPr>
          <a:xfrm>
            <a:off x="0" y="2149560"/>
            <a:ext cx="3238560" cy="23749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9"/>
          <p:cNvSpPr/>
          <p:nvPr/>
        </p:nvSpPr>
        <p:spPr>
          <a:xfrm>
            <a:off x="457200" y="1612800"/>
            <a:ext cx="81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ЂЕЊЕ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C:\Users\Zoran\Downloads\oralna hirurgija\slike\431958813_640.jpg"/>
          <p:cNvPicPr/>
          <p:nvPr/>
        </p:nvPicPr>
        <p:blipFill>
          <a:blip r:embed="rId2"/>
          <a:srcRect l="846" t="0" r="0" b="10323"/>
          <a:stretch/>
        </p:blipFill>
        <p:spPr>
          <a:xfrm>
            <a:off x="5411880" y="1273320"/>
            <a:ext cx="3570120" cy="2420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C:\Users\Zoran\Downloads\oralna hirurgija\slike\431958658_640.jpg"/>
          <p:cNvPicPr/>
          <p:nvPr/>
        </p:nvPicPr>
        <p:blipFill>
          <a:blip r:embed="rId3"/>
          <a:srcRect l="22238" t="0" r="-44" b="15863"/>
          <a:stretch/>
        </p:blipFill>
        <p:spPr>
          <a:xfrm>
            <a:off x="3274920" y="3741840"/>
            <a:ext cx="33242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0" y="6424560"/>
            <a:ext cx="39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7B30-421F-429E-8A12-1C50A253E53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444600" y="1697040"/>
            <a:ext cx="82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ЕБРИДМАН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C:\Users\Zoran\Downloads\oralna hirurgija\slike\images55454.jpg"/>
          <p:cNvPicPr/>
          <p:nvPr/>
        </p:nvPicPr>
        <p:blipFill>
          <a:blip r:embed="rId1"/>
          <a:stretch/>
        </p:blipFill>
        <p:spPr>
          <a:xfrm>
            <a:off x="426960" y="2709720"/>
            <a:ext cx="3700440" cy="2772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C:\Users\Zoran\Downloads\oralna hirurgija\slike\images6665.jpg"/>
          <p:cNvPicPr/>
          <p:nvPr/>
        </p:nvPicPr>
        <p:blipFill>
          <a:blip r:embed="rId2"/>
          <a:srcRect l="2984" t="17426" r="0" b="5451"/>
          <a:stretch/>
        </p:blipFill>
        <p:spPr>
          <a:xfrm>
            <a:off x="4813200" y="2874960"/>
            <a:ext cx="39942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импакције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1353-8E9F-4800-9DC0-68254130726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44600" y="1528920"/>
            <a:ext cx="818172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 за изостанак ницања зуба и његову импакцију нису  у потпуности разјашњ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 могу бити број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достатак простора у зубном луку један је од најчешћих фактора који доприносе овој поја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равилан положај клице зуба може бити узрок изостанка ницања и у случајевима када је простор у зубном луку  довољ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граничен раст вилица у антеро-постериорном правцу може створити услове за тескобу зуба и импакцију зуба који последњи ничу ( доњи умњаци ) због недостатка простора између  другог молара и рамуса мандиб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0" y="6424560"/>
            <a:ext cx="3736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2A71-AA4E-43E0-8F60-9F1E24C8601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1" name="Picture 8" descr="C:\Users\Zoran\Downloads\oralna hirurgija\slike\Upper_3rd_Molar_Impaction_Classification_2-578x505.jpg"/>
          <p:cNvPicPr/>
          <p:nvPr/>
        </p:nvPicPr>
        <p:blipFill>
          <a:blip r:embed="rId1"/>
          <a:srcRect l="0" t="0" r="608" b="27737"/>
          <a:stretch/>
        </p:blipFill>
        <p:spPr>
          <a:xfrm>
            <a:off x="1614600" y="2400480"/>
            <a:ext cx="5472000" cy="3474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9"/>
          <p:cNvSpPr/>
          <p:nvPr/>
        </p:nvSpPr>
        <p:spPr>
          <a:xfrm>
            <a:off x="469800" y="1563840"/>
            <a:ext cx="81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а и радиоградска процена хируршког поступ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0" y="6424560"/>
            <a:ext cx="3753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6740-2E2D-4E6B-A047-2018DCDDE6E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469800" y="1697040"/>
            <a:ext cx="812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цизија за приступ импактираном зубу се прави по алвеоларном гребену, дистално од другог молара и екстендира косо у форникс од његове букодисталне ив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C:\Users\Zoran\Downloads\oralna hirurgija\slike\imagesjuuuu.jpg"/>
          <p:cNvPicPr/>
          <p:nvPr/>
        </p:nvPicPr>
        <p:blipFill>
          <a:blip r:embed="rId1"/>
          <a:srcRect l="1152" t="11850" r="53462" b="55925"/>
          <a:stretch/>
        </p:blipFill>
        <p:spPr>
          <a:xfrm>
            <a:off x="1455840" y="2898720"/>
            <a:ext cx="565452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245F-802E-405C-A665-1F141FA12DF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C:\Users\Zoran\Downloads\oralna hirurgija\slike\imagesjuuuu.jpg"/>
          <p:cNvPicPr/>
          <p:nvPr/>
        </p:nvPicPr>
        <p:blipFill>
          <a:blip r:embed="rId1"/>
          <a:srcRect l="50495" t="11850" r="2628" b="54606"/>
          <a:stretch/>
        </p:blipFill>
        <p:spPr>
          <a:xfrm>
            <a:off x="2514600" y="1528920"/>
            <a:ext cx="3956040" cy="2122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C:\Users\Zoran\Downloads\oralna hirurgija\slike\imagesjuuuu.jpg"/>
          <p:cNvPicPr/>
          <p:nvPr/>
        </p:nvPicPr>
        <p:blipFill>
          <a:blip r:embed="rId2"/>
          <a:srcRect l="0" t="59232" r="1152" b="0"/>
          <a:stretch/>
        </p:blipFill>
        <p:spPr>
          <a:xfrm>
            <a:off x="1920960" y="4054320"/>
            <a:ext cx="5234040" cy="16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F4A7-B0B1-48CB-97A7-BD8908EA6E5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оч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444600" y="1768320"/>
            <a:ext cx="817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орњи очњаци најчешће остају импактирани због недостатка простора за њихов смештај у вилици у којој су већ никли секутићи и премол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а клиничка манифестација присуства импактираног очњака је лабављење латералног секутића или присуство млечног предходника након 12 године жив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C:\Users\Zoran\Downloads\oralna hirurgija\slike\download (22).jpg"/>
          <p:cNvPicPr/>
          <p:nvPr/>
        </p:nvPicPr>
        <p:blipFill>
          <a:blip r:embed="rId1"/>
          <a:stretch/>
        </p:blipFill>
        <p:spPr>
          <a:xfrm>
            <a:off x="582480" y="3747960"/>
            <a:ext cx="2813040" cy="2482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C:\Users\Zoran\Downloads\oralna hirurgija\slike\imagestroj.jpg"/>
          <p:cNvPicPr/>
          <p:nvPr/>
        </p:nvPicPr>
        <p:blipFill>
          <a:blip r:embed="rId2"/>
          <a:stretch/>
        </p:blipFill>
        <p:spPr>
          <a:xfrm>
            <a:off x="3622680" y="3708360"/>
            <a:ext cx="53672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импакције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472D-00E1-48CB-94D8-CA6C20328D9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20840" y="1925640"/>
            <a:ext cx="821844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зна задебљања мукопериоста, као и склероза кости или задебљања слузокоже, могу механички ометати и задржати зуб у ницањ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ицање зуба могу ометати и присутни, такође импактирани, прекобројни зуби, као и друга патолошка стања – одонтоми, цисте или тум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изникли зуби могу бити одлика и неких генерализованих синдрома, као што су Гролинов синдром или клеидокранијалних дист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B9ED-1EB2-43C8-B05B-8D16F810264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57200" y="1697040"/>
            <a:ext cx="8193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јагноза импактираних зуба поставља се на основу анамнезе, детаљног клиничког прегледа и начињене радиограф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ако неизникли и импактирани зуби углавном не причињавају сметње пацијентима, понекад блага нелагодност прати ницање ових зуба, поготову у стадијуму заузимања правилног положаја за ниц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су у питању доњи умњаци, ове нелагодности често бивју потенциране клиничком сликом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коронитис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који често компликују ницање ових зуба и често рецидивир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0F47-47AB-4DA9-B557-225C89A24AB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44600" y="1576440"/>
            <a:ext cx="819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манифеснији симптоми перикоронитиса су бол и тризм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Бол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је туп или пулсирајући, веома интезиван, причињава сметње при гутању и отварању у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Тризму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може бити само назначен или интезив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коронити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може да се компликује ширењем инфекције у суседне просторе ( субмандибуларни, масетерични и птеригомандибуларн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2336-A24F-4F1B-A70D-51B51FD2ECC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168444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И НА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тојање тумефакта у пределу где би требао да постоји зуб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зистентан млечни зуб у старосној доби када би требало да су изникли стални зу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ликом прегледа, посебну пажњу треба обратити на зубе у суседству неизниклог зуба и проверити евентуално присуство каријеса или пародонталног џе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еким случајевима може се сондом кроз постојећи пародонтални џеп контактирати круна импактира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006F-85C1-42B7-AF05-9A01E163913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80960" y="1636560"/>
            <a:ext cx="8121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пак, без обзира на налазе који се добију клиничким прегледом, радиографски преглед остаје незаобилазни метод  дијагнозе  и процене положаја импактираног зуба у склопу општег терапијског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АДИОГРАФСКИ МЕТ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бар радиографски налаз јасно показује, положај импактираног зуба, морфологију зуба ( број коренова, распоред, повијеност и аномалије), стање околне кости, однос према суседним зубима, удаљеност од доње ивице, ангулуса и рамуса мандибуле, однос према мандибуларном каналу, максиларном синусу, носној шупљини и ту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1302-F077-4E61-A5C1-626057A6081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444600" y="1768320"/>
            <a:ext cx="869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циљу добијања жељених података најчешће се корис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раорални методи – ретроалвеоларни и аксиј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топан сним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rtg-zęba.png"/>
          <p:cNvPicPr/>
          <p:nvPr/>
        </p:nvPicPr>
        <p:blipFill>
          <a:blip r:embed="rId1"/>
          <a:stretch/>
        </p:blipFill>
        <p:spPr>
          <a:xfrm>
            <a:off x="646200" y="3573360"/>
            <a:ext cx="152856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2494080" y="3139920"/>
            <a:ext cx="4032000" cy="206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6708600" y="3625920"/>
            <a:ext cx="16783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6:02:57Z</dcterms:modified>
  <cp:revision>1405</cp:revision>
  <dc:subject/>
  <dc:title>NAZIV PREDAVANJA</dc:title>
</cp:coreProperties>
</file>